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01A-872B-486D-87DA-F087C14A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EC4-4B56-4072-9627-AD8146D1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BC5-081C-49F0-A7A3-AB40D299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0A4-2CC9-490C-859D-AE7765BA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4C9-4E0D-48E0-997E-DE8E5BDF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69C-B104-4CDB-ACE6-DD4A6749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668-8009-40E9-831F-88E2F2FC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EA1-8C16-40D6-AB37-EC7E668B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E14-6C7A-4390-8A8E-6A61133C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4F2-4930-414C-908F-4DB92AA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513-1974-4318-8783-591BD92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029-12B7-449B-AC5E-EF2DDD1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01AE-4940-47DD-BF21-E83D9D804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25 x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7 x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4 x 0.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bjective:  Students will Divide Decimals by decima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used to divide decimals by whol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39160" y="579420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 Sans ITC TT-SemiIta"/>
              </a:rPr>
              <a:t>What if the divisor has a decim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362320" y="228600"/>
            <a:ext cx="64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71680" y="1104840"/>
            <a:ext cx="8038800" cy="1191240"/>
            <a:chOff x="571680" y="1104840"/>
            <a:chExt cx="8038800" cy="1191240"/>
          </a:xfrm>
        </p:grpSpPr>
        <p:sp>
          <p:nvSpPr>
            <p:cNvPr id="52" name=""/>
            <p:cNvSpPr/>
            <p:nvPr/>
          </p:nvSpPr>
          <p:spPr>
            <a:xfrm>
              <a:off x="571680" y="1104840"/>
              <a:ext cx="803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find the quoti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.102    6.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multiply the divisor and dividend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Move the decimal poin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place to the righ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4470480" y="127008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888840" y="2362320"/>
            <a:ext cx="1587600" cy="642600"/>
            <a:chOff x="888840" y="2362320"/>
            <a:chExt cx="1587600" cy="64260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2362320"/>
              <a:ext cx="1181160" cy="642600"/>
              <a:chOff x="1219320" y="2362320"/>
              <a:chExt cx="1181160" cy="64260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2362320"/>
                <a:ext cx="30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333440" y="255276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88840" y="2514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09760" y="2514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.1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590920" y="2514600"/>
            <a:ext cx="2590560" cy="5205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257800" y="2355840"/>
            <a:ext cx="2057040" cy="882720"/>
            <a:chOff x="5257800" y="2355840"/>
            <a:chExt cx="2057040" cy="882720"/>
          </a:xfrm>
        </p:grpSpPr>
        <p:grpSp>
          <p:nvGrpSpPr>
            <p:cNvPr id="62" name=""/>
            <p:cNvGrpSpPr/>
            <p:nvPr/>
          </p:nvGrpSpPr>
          <p:grpSpPr>
            <a:xfrm>
              <a:off x="5257800" y="2355840"/>
              <a:ext cx="2057040" cy="642600"/>
              <a:chOff x="5257800" y="2355840"/>
              <a:chExt cx="2057040" cy="6426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5685840" y="2355840"/>
                <a:ext cx="1530000" cy="642600"/>
                <a:chOff x="5685840" y="2355840"/>
                <a:chExt cx="1530000" cy="6426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5685840" y="2355840"/>
                  <a:ext cx="39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833440" y="2546280"/>
                  <a:ext cx="138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5257800" y="2508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932800" y="2508120"/>
                <a:ext cx="13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1.0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5359320" y="2895480"/>
              <a:ext cx="343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8"/>
            <a:stretch/>
          </p:blipFill>
          <p:spPr>
            <a:xfrm>
              <a:off x="6222960" y="2895480"/>
              <a:ext cx="34308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5257800" y="3429000"/>
            <a:ext cx="3390840" cy="1068120"/>
            <a:chOff x="5257800" y="3429000"/>
            <a:chExt cx="3390840" cy="1068120"/>
          </a:xfrm>
        </p:grpSpPr>
        <p:grpSp>
          <p:nvGrpSpPr>
            <p:cNvPr id="71" name=""/>
            <p:cNvGrpSpPr/>
            <p:nvPr/>
          </p:nvGrpSpPr>
          <p:grpSpPr>
            <a:xfrm>
              <a:off x="5257800" y="3854520"/>
              <a:ext cx="2057040" cy="642600"/>
              <a:chOff x="5257800" y="3854520"/>
              <a:chExt cx="2057040" cy="6426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5685840" y="3854520"/>
                <a:ext cx="1530000" cy="642600"/>
                <a:chOff x="5685840" y="3854520"/>
                <a:chExt cx="1530000" cy="6426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85840" y="3854520"/>
                  <a:ext cx="39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833440" y="4044960"/>
                  <a:ext cx="138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5257800" y="40068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32800" y="4006800"/>
                <a:ext cx="13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1.0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7124760" y="3429000"/>
              <a:ext cx="1523880" cy="380880"/>
            </a:xfrm>
            <a:prstGeom prst="wedgeRoundRectCallout">
              <a:avLst>
                <a:gd name="adj1" fmla="val -36351"/>
                <a:gd name="adj2" fmla="val 10083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n divid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51880" y="368316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9.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739520" y="5638680"/>
            <a:ext cx="53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 Italic"/>
              </a:rPr>
              <a:t>Over - over and up we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362320" y="3049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090440"/>
            <a:ext cx="82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some quotients, you may need to use zeros as plac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5680" y="19162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holder in Divid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38080" y="2362320"/>
            <a:ext cx="2057400" cy="459720"/>
            <a:chOff x="838080" y="2362320"/>
            <a:chExt cx="2057400" cy="459720"/>
          </a:xfrm>
        </p:grpSpPr>
        <p:sp>
          <p:nvSpPr>
            <p:cNvPr id="88" name=""/>
            <p:cNvSpPr/>
            <p:nvPr/>
          </p:nvSpPr>
          <p:spPr>
            <a:xfrm>
              <a:off x="838080" y="2362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 1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1130400" y="247644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6"/>
          <a:srcRect l="-13140" t="9991" r="0" b="0"/>
          <a:stretch/>
        </p:blipFill>
        <p:spPr>
          <a:xfrm>
            <a:off x="1066680" y="2895480"/>
            <a:ext cx="349200" cy="6858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57200" y="3581280"/>
            <a:ext cx="2057400" cy="642600"/>
            <a:chOff x="457200" y="3581280"/>
            <a:chExt cx="2057400" cy="642600"/>
          </a:xfrm>
        </p:grpSpPr>
        <p:sp>
          <p:nvSpPr>
            <p:cNvPr id="92" name=""/>
            <p:cNvSpPr/>
            <p:nvPr/>
          </p:nvSpPr>
          <p:spPr>
            <a:xfrm>
              <a:off x="1131840" y="373392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885960" y="3581280"/>
              <a:ext cx="765000" cy="642600"/>
              <a:chOff x="885960" y="3581280"/>
              <a:chExt cx="765000" cy="642600"/>
            </a:xfrm>
          </p:grpSpPr>
          <p:sp>
            <p:nvSpPr>
              <p:cNvPr id="94" name=""/>
              <p:cNvSpPr/>
              <p:nvPr/>
            </p:nvSpPr>
            <p:spPr>
              <a:xfrm>
                <a:off x="885960" y="3581280"/>
                <a:ext cx="3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08000" y="377208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57200" y="37339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7"/>
          <a:srcRect l="-12249" t="15032" r="0" b="0"/>
          <a:stretch/>
        </p:blipFill>
        <p:spPr>
          <a:xfrm>
            <a:off x="1066680" y="4191120"/>
            <a:ext cx="346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92120" y="4813200"/>
            <a:ext cx="1260360" cy="1551960"/>
            <a:chOff x="492120" y="4813200"/>
            <a:chExt cx="1260360" cy="1551960"/>
          </a:xfrm>
        </p:grpSpPr>
        <p:grpSp>
          <p:nvGrpSpPr>
            <p:cNvPr id="99" name=""/>
            <p:cNvGrpSpPr/>
            <p:nvPr/>
          </p:nvGrpSpPr>
          <p:grpSpPr>
            <a:xfrm>
              <a:off x="860400" y="4997520"/>
              <a:ext cx="765000" cy="642600"/>
              <a:chOff x="860400" y="4997520"/>
              <a:chExt cx="765000" cy="642600"/>
            </a:xfrm>
          </p:grpSpPr>
          <p:sp>
            <p:nvSpPr>
              <p:cNvPr id="100" name=""/>
              <p:cNvSpPr/>
              <p:nvPr/>
            </p:nvSpPr>
            <p:spPr>
              <a:xfrm>
                <a:off x="860400" y="4997520"/>
                <a:ext cx="3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82440" y="518796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068480" y="5181480"/>
              <a:ext cx="62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120" y="518148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2240" y="5943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44520" y="59054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4813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057400" y="2895480"/>
            <a:ext cx="1523880" cy="685800"/>
          </a:xfrm>
          <a:prstGeom prst="wedgeRoundRectCallout">
            <a:avLst>
              <a:gd name="adj1" fmla="val -71356"/>
              <a:gd name="adj2" fmla="val 1078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ro as place 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66560" y="1903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holder in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3280" y="2362320"/>
            <a:ext cx="1704600" cy="459720"/>
            <a:chOff x="5183280" y="2362320"/>
            <a:chExt cx="1704600" cy="459720"/>
          </a:xfrm>
        </p:grpSpPr>
        <p:sp>
          <p:nvSpPr>
            <p:cNvPr id="110" name=""/>
            <p:cNvSpPr/>
            <p:nvPr/>
          </p:nvSpPr>
          <p:spPr>
            <a:xfrm>
              <a:off x="5183280" y="236232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126    1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8"/>
            <a:srcRect l="22218" t="0" r="18690" b="0"/>
            <a:stretch/>
          </p:blipFill>
          <p:spPr>
            <a:xfrm>
              <a:off x="6148440" y="247644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" descr=""/>
          <p:cNvPicPr/>
          <p:nvPr/>
        </p:nvPicPr>
        <p:blipFill>
          <a:blip r:embed="rId9"/>
          <a:srcRect l="1114" t="9991" r="0" b="0"/>
          <a:stretch/>
        </p:blipFill>
        <p:spPr>
          <a:xfrm>
            <a:off x="6172200" y="2895480"/>
            <a:ext cx="3049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5257800" y="3473280"/>
            <a:ext cx="2057040" cy="642600"/>
            <a:chOff x="5257800" y="3473280"/>
            <a:chExt cx="2057040" cy="642600"/>
          </a:xfrm>
        </p:grpSpPr>
        <p:grpSp>
          <p:nvGrpSpPr>
            <p:cNvPr id="114" name=""/>
            <p:cNvGrpSpPr/>
            <p:nvPr/>
          </p:nvGrpSpPr>
          <p:grpSpPr>
            <a:xfrm>
              <a:off x="5685840" y="3473280"/>
              <a:ext cx="1530000" cy="642600"/>
              <a:chOff x="5685840" y="3473280"/>
              <a:chExt cx="1530000" cy="642600"/>
            </a:xfrm>
          </p:grpSpPr>
          <p:sp>
            <p:nvSpPr>
              <p:cNvPr id="115" name=""/>
              <p:cNvSpPr/>
              <p:nvPr/>
            </p:nvSpPr>
            <p:spPr>
              <a:xfrm>
                <a:off x="5685840" y="3473280"/>
                <a:ext cx="39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33440" y="3663720"/>
                <a:ext cx="138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257800" y="3625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32800" y="3625560"/>
              <a:ext cx="13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1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0"/>
          <a:srcRect l="-6904" t="11701" r="0" b="0"/>
          <a:stretch/>
        </p:blipFill>
        <p:spPr>
          <a:xfrm>
            <a:off x="6172200" y="4191120"/>
            <a:ext cx="330120" cy="67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074000" y="3733920"/>
            <a:ext cx="1612800" cy="685800"/>
          </a:xfrm>
          <a:prstGeom prst="wedgeRoundRectCallout">
            <a:avLst>
              <a:gd name="adj1" fmla="val -70175"/>
              <a:gd name="adj2" fmla="val 1078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ro as place 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521320" y="4800600"/>
            <a:ext cx="2784600" cy="1551960"/>
            <a:chOff x="5521320" y="4800600"/>
            <a:chExt cx="2784600" cy="1551960"/>
          </a:xfrm>
        </p:grpSpPr>
        <p:sp>
          <p:nvSpPr>
            <p:cNvPr id="122" name=""/>
            <p:cNvSpPr/>
            <p:nvPr/>
          </p:nvSpPr>
          <p:spPr>
            <a:xfrm>
              <a:off x="5889600" y="4984920"/>
              <a:ext cx="3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2000" y="5175360"/>
              <a:ext cx="92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7680" y="5168880"/>
              <a:ext cx="22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21320" y="516888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88200" y="593100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5892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58080" y="4800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55245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09:02Z</dcterms:created>
  <dc:creator>deanne elizabeth mcgrath</dc:creator>
  <dc:description/>
  <dc:language>en-US</dc:language>
  <cp:lastModifiedBy>deanne elizabeth mcgrath</cp:lastModifiedBy>
  <dcterms:modified xsi:type="dcterms:W3CDTF">2011-04-01T18:09:37Z</dcterms:modified>
  <cp:revision>1</cp:revision>
  <dc:subject/>
  <dc:title>Warm-up:</dc:title>
</cp:coreProperties>
</file>